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3.jpeg" ContentType="image/jpeg"/>
  <Override PartName="/ppt/media/image12.gif" ContentType="image/gif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B16-C7C6-4D06-984F-EF18B3C9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64C-E6F7-476D-B9C4-F500078A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50D-C1D6-4863-98CC-CE16BD71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8FD-555A-43CC-A3A8-D091A129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A921-C630-42D3-AC73-963E4D60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F5F8-8562-4FE5-9703-FD629343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9AF6-C663-4EFB-BF12-59EFAC41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5624-BFD1-446D-82D6-C7516D7E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E944-F0E6-4F9D-B74F-624770A3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7548-B3EF-4C51-8676-5122DBAA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1C6B-207D-4B10-963B-198896BC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C3C-B0F8-4E66-B68B-3EFDF0B6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8391-47F0-4C45-8EF8-72B572B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C4B3-A5C5-4AAE-A705-6AF4165E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6616-680E-496A-89B4-109E63C6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72D6-7FAE-4737-A654-E68CD8C2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1023-E88B-4488-ABCF-3D5E2134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D80-196E-4F60-8C60-A66506A9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6C9-EDFB-424A-9B42-064B6381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92F-25E2-4030-989E-FAF27E52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6FB-EC26-485E-9CFA-4F6784F0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BE5-3E4A-45A6-997A-3EB081A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B29-EB04-4771-8E97-3036FFF6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469-D076-4FDE-9B47-93492C4F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D77-EA98-4DC9-A45A-86BFC81AB58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1291-B47B-40F0-B90E-05CEA99DBB29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ctr"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3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1" lang="hu-HU" sz="5300" spc="-1" strike="noStrike" baseline="-25000">
                <a:solidFill>
                  <a:srgbClr val="660066"/>
                </a:solidFill>
                <a:latin typeface="Tahoma"/>
              </a:rPr>
              <a:t>2 </a:t>
            </a:r>
            <a:r>
              <a:rPr b="1" lang="hu-HU" sz="5300" spc="-1" strike="noStrike">
                <a:solidFill>
                  <a:srgbClr val="660066"/>
                </a:solidFill>
                <a:latin typeface="Tahoma"/>
              </a:rPr>
              <a:t>érzékelők</a:t>
            </a:r>
            <a:br>
              <a:rPr sz="5300"/>
            </a:br>
            <a:endParaRPr b="0" lang="en-US" sz="5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724360" y="5084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Lőkkös Norbert (FFRQJ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024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Törésmutató vizsgálata alapján II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Haber-Löwe refraktomét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2. oszlop(Törésmuatató) megmuatatja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azt,ha az összehasonlító gáz levegő,a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kérdéses gáz mely tf%-a mérhető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levegőben még pontosa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Picture 4" descr="harber"/>
          <p:cNvPicPr/>
          <p:nvPr/>
        </p:nvPicPr>
        <p:blipFill>
          <a:blip r:embed="rId1"/>
          <a:stretch/>
        </p:blipFill>
        <p:spPr>
          <a:xfrm>
            <a:off x="4140360" y="2060640"/>
            <a:ext cx="4662360" cy="3370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toresmutato"/>
          <p:cNvPicPr/>
          <p:nvPr/>
        </p:nvPicPr>
        <p:blipFill>
          <a:blip r:embed="rId2"/>
          <a:stretch/>
        </p:blipFill>
        <p:spPr>
          <a:xfrm>
            <a:off x="250920" y="2349360"/>
            <a:ext cx="3308400" cy="3857760"/>
          </a:xfrm>
          <a:prstGeom prst="rect">
            <a:avLst/>
          </a:prstGeom>
          <a:ln w="0">
            <a:noFill/>
          </a:ln>
        </p:spPr>
      </p:pic>
      <p:sp>
        <p:nvSpPr>
          <p:cNvPr id="240" name="Line 6"/>
          <p:cNvSpPr/>
          <p:nvPr/>
        </p:nvSpPr>
        <p:spPr>
          <a:xfrm>
            <a:off x="5940360" y="1773360"/>
            <a:ext cx="936720" cy="0"/>
          </a:xfrm>
          <a:prstGeom prst="line">
            <a:avLst/>
          </a:prstGeom>
          <a:ln w="316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6877080" y="1773360"/>
            <a:ext cx="0" cy="21564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3635280" y="6021360"/>
            <a:ext cx="72072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molekulák IR-tartományba eső rezgési és forgási spektrumai elnyelik az IR sugarakat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Lambert-Beer törvény 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  <a:ea typeface="Arial"/>
              </a:rPr>
              <a:t>→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mennyiségi elemzés (az elnyelt sugárzás mennyisége az abszorbeáló anyag mennyiségétől, koncentrációjától függ.A fényelnyelést a Lambert-Beer törvény fejezi k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3"/>
          <a:stretch/>
        </p:blipFill>
        <p:spPr>
          <a:xfrm>
            <a:off x="1547640" y="3606840"/>
            <a:ext cx="58946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NDIR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szenz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Elvi felépíté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5" descr="NDIR CO2 Sensor"/>
          <p:cNvPicPr/>
          <p:nvPr/>
        </p:nvPicPr>
        <p:blipFill>
          <a:blip r:embed="rId1"/>
          <a:stretch/>
        </p:blipFill>
        <p:spPr>
          <a:xfrm>
            <a:off x="4211640" y="170028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6877080" y="4365720"/>
            <a:ext cx="1517760" cy="20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beerslaw"/>
          <p:cNvPicPr/>
          <p:nvPr/>
        </p:nvPicPr>
        <p:blipFill>
          <a:blip r:embed="rId3"/>
          <a:stretch/>
        </p:blipFill>
        <p:spPr>
          <a:xfrm>
            <a:off x="1258920" y="3249720"/>
            <a:ext cx="36878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I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AO 2000 Folyamatos emissziómérő rendsze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Szilárd, folyékony és gáznemű tüzelőanyagok elégetésekor felszabaduló füstgázok koncentrációjának pontos és folyamatos analizálására és a mérési eredmények feldolgozására, gyűjtésére szolgáló beépített, vagy több egységre szétbontható, hordozható műszerrendszer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Több modulja van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MAGNOS 106 paramágneses oxigén-mérő modu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25 tf% tartomány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1" lang="hu-HU" sz="1800" spc="-1" strike="noStrike">
                <a:solidFill>
                  <a:srgbClr val="40458c"/>
                </a:solidFill>
                <a:latin typeface="Tahoma"/>
              </a:rPr>
              <a:t>URAS 14 infravörös abszorbciós CO2 mérő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458c"/>
                </a:solidFill>
                <a:latin typeface="Tahoma"/>
              </a:rPr>
              <a:t>modul 0…25 tf% tartományra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CO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50 000 ppm tartományr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NO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1 000 ppm tartomány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SO2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1 000 ppm tartományra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Picture 5" descr="548_ao2000"/>
          <p:cNvPicPr/>
          <p:nvPr/>
        </p:nvPicPr>
        <p:blipFill>
          <a:blip r:embed="rId3"/>
          <a:stretch/>
        </p:blipFill>
        <p:spPr>
          <a:xfrm>
            <a:off x="6372360" y="3284640"/>
            <a:ext cx="23079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További érzékelő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http://www.anton-paar.hu/gazmeres.ht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oldalon további CO2 érzékelőket találunk különböző mérési módszerekk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Pl.: </a:t>
            </a:r>
            <a:r>
              <a:rPr b="1" lang="hu-HU" sz="3000" spc="-1" strike="noStrike" u="sng">
                <a:solidFill>
                  <a:srgbClr val="40458c"/>
                </a:solidFill>
                <a:uFillTx/>
                <a:latin typeface="Tahoma"/>
              </a:rPr>
              <a:t>ATX620 többcsatornás készülék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, CheckPoint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CheckMate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CMV-2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MAP Check Combi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40458c"/>
                </a:solidFill>
                <a:latin typeface="Tahoma"/>
              </a:rPr>
              <a:t>Köszönöm a figyelmet!</a:t>
            </a:r>
            <a:endParaRPr b="0" lang="en-US" sz="5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-ról általános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légkör természetes alkotórés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Légköri nyomáson gáz halmazállapot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tiszta levegő 0,035 tf% </a:t>
            </a:r>
            <a:r>
              <a:rPr b="0" i="1" lang="hu-HU" sz="3200" spc="-1" strike="noStrike">
                <a:solidFill>
                  <a:srgbClr val="40458c"/>
                </a:solidFill>
                <a:latin typeface="Tahoma"/>
              </a:rPr>
              <a:t>szén-dioxidot</a:t>
            </a: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 (350 ppm) tartalma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Üvegházgáz (globális felmelegedé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Mennyisége folyamatosan nő               koncentrációjának ellenőrzése fo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68360" y="6021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ppm: </a:t>
            </a:r>
            <a:r>
              <a:rPr b="0" i="1" lang="hu-HU" sz="2400" spc="-1" strike="noStrike">
                <a:solidFill>
                  <a:srgbClr val="40458c"/>
                </a:solidFill>
                <a:latin typeface="Tahoma"/>
              </a:rPr>
              <a:t>parts per million</a:t>
            </a: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(rész a millióban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-ról általános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5" descr="konc"/>
          <p:cNvPicPr/>
          <p:nvPr/>
        </p:nvPicPr>
        <p:blipFill>
          <a:blip r:embed="rId1"/>
          <a:stretch/>
        </p:blipFill>
        <p:spPr>
          <a:xfrm>
            <a:off x="971640" y="1700280"/>
            <a:ext cx="6696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 mérési módszere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CO</a:t>
            </a:r>
            <a:r>
              <a:rPr b="0" lang="hu-HU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 parciális nyomásának méré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gázalkotót abszorbeáló közeg villamos vezetőképességének vizsgálatáv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Törésmutató vizsgálata alapjá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Infravörös abszorpciós el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0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4000"/>
            </a:b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(Potenciometrikus gázszenzor) 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Gőz által sterilizálható szondával lehetsé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 parciális nyomásának méré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1" lang="hu-HU" sz="28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1" i="1" lang="hu-HU" sz="28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diffundá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349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H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+ 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ionok képződése arányos az elektrolitban oldódott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 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mennyiségével, a következő reakció alapján: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+ H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O        H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+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 +  H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34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kimenő jel (mV) arányos 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parciális nyomásáv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0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4000"/>
            </a:b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(Potenciometrikus gázszenzor) I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40458c"/>
                </a:solidFill>
                <a:uFillTx/>
                <a:latin typeface="Tahoma"/>
              </a:rPr>
              <a:t>Molekulaszelektív elektró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oldódik szénsavvá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pH alapján mérünk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5892840" y="2774880"/>
                <a:ext cx="1625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5261040" y="1773360"/>
            <a:ext cx="3468600" cy="452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971640" y="4149720"/>
                <a:ext cx="37432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C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d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1042920" y="2924280"/>
                <a:ext cx="3529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36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3600"/>
            </a:b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(Potenciometrikus gázszenzor) III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458c"/>
                </a:solidFill>
                <a:latin typeface="Tahoma"/>
              </a:rPr>
              <a:t>Ilyen elven működő mérőműszer: Testo 535 (</a:t>
            </a:r>
            <a:r>
              <a:rPr b="1" lang="hu-HU" sz="2000" spc="-1" strike="noStrike">
                <a:solidFill>
                  <a:srgbClr val="40458c"/>
                </a:solidFill>
                <a:latin typeface="Tahoma"/>
              </a:rPr>
              <a:t>171.360 F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A testo 535 precíz CO2 mérő műszer a helységben lévő levegő minőségének meghatározására szolgál. A túl magas, 1000 ppm feletti CO2 koncentráció okozta rossz levegőminőség, a belső terekben fáradtsághoz, koncentrációzavarhoz és esetenként megbetegedésekhez vezethe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Precíz, pont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Tartós megfigyelés felső- és középérték képzéss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2 csatornás infraérzélelő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4"/>
          <a:stretch/>
        </p:blipFill>
        <p:spPr>
          <a:xfrm>
            <a:off x="6443640" y="3357720"/>
            <a:ext cx="2417760" cy="32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muszaki"/>
          <p:cNvPicPr/>
          <p:nvPr/>
        </p:nvPicPr>
        <p:blipFill>
          <a:blip r:embed="rId5"/>
          <a:stretch/>
        </p:blipFill>
        <p:spPr>
          <a:xfrm>
            <a:off x="611280" y="4292640"/>
            <a:ext cx="5545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0066"/>
                </a:solidFill>
                <a:latin typeface="Tahoma"/>
              </a:rPr>
              <a:t>A gázalkotót abszorbeáló közeg villamos vezetőképességének vizsgálatáva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9261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Ionflux készülék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SzPct val="21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14,16 érzékelő cellák jelének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különbségét, mint az elnyelt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gázalkotóval egyenesen arányos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jelet viszik a regisztráló műszerr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SzPct val="21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Szükséges gázminta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5-20dm</a:t>
            </a:r>
            <a:r>
              <a:rPr b="0" lang="hu-HU" sz="17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/h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Picture 4" descr="ionflux"/>
          <p:cNvPicPr/>
          <p:nvPr/>
        </p:nvPicPr>
        <p:blipFill>
          <a:blip r:embed="rId3"/>
          <a:stretch/>
        </p:blipFill>
        <p:spPr>
          <a:xfrm>
            <a:off x="4078440" y="1413000"/>
            <a:ext cx="50655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Törésmutató vizsgálata alapján 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fény két közeg határán megtöri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Fénytörés mértéke mindkét közegre jellemző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jelenséget az analízishez közvetlenül felhasználó műszerek a </a:t>
            </a:r>
            <a:r>
              <a:rPr b="0" i="1" lang="hu-HU" sz="3200" spc="-1" strike="noStrike">
                <a:solidFill>
                  <a:srgbClr val="40458c"/>
                </a:solidFill>
                <a:latin typeface="Tahoma"/>
              </a:rPr>
              <a:t>refraktométer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7:13:08Z</dcterms:created>
  <dc:creator>Miklós</dc:creator>
  <dc:description/>
  <dc:language>en-US</dc:language>
  <cp:lastModifiedBy>Gáspár Miklós</cp:lastModifiedBy>
  <dcterms:modified xsi:type="dcterms:W3CDTF">2009-05-24T06:42:51Z</dcterms:modified>
  <cp:revision>52</cp:revision>
  <dc:subject/>
  <dc:title>CO2 érzékelők</dc:title>
</cp:coreProperties>
</file>